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5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2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60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49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167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55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38.xml" ContentType="application/vnd.openxmlformats-officedocument.presentationml.slide+xml"/>
  <Override PartName="/ppt/slides/slide232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233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234.xml" ContentType="application/vnd.openxmlformats-officedocument.presentationml.slide+xml"/>
  <Override PartName="/ppt/slides/slide41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EEF-7A1E-48E3-A1C4-B213086F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53B-A44F-4EE4-A299-A1BFF8F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908-8F33-4485-BBC4-5A7B2F2E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07B-56D8-4FCC-9325-E7376C28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4D82-2B6C-4CF0-9C41-E5F16163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778-91F8-4B5A-8D71-36F44DB5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7124-B0CA-4D65-8ABB-E8A0521F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FF13-9896-4D76-9F42-F372A7EE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FE09-8716-4731-9978-2374E17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6848-C420-4625-AB64-B36CA6F1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0E2D-C565-4F26-B164-D9631AD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319-E1EB-49ED-998D-5DA3865F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FAC-E7AF-4354-ABFC-C3559FF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A6BD-5B67-4DBE-A803-7AFE899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36BB-7FF3-42B6-A026-366CBA01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3CF4-3E8B-4E9F-994F-3D7AA223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5EB-A350-4F74-B0B5-65CA3EC2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C15-92EC-44E1-886E-90B16B9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2A6-E7DC-4BD5-A603-A5D2B82D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382-CD19-4D70-98B5-9740E6EE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A6E-1DEE-4979-AA5A-993032F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9C8-9BB0-490E-A7E0-A85CA91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F44-126A-41C5-9846-3CCA8217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EF2-366F-4AB9-A4E9-B3B4707E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0AC8-9BDA-4810-B2EA-12DB63624B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9"/>
          <p:cNvGrpSpPr/>
          <p:nvPr/>
        </p:nvGrpSpPr>
        <p:grpSpPr>
          <a:xfrm>
            <a:off x="0" y="5994360"/>
            <a:ext cx="7848720" cy="857160"/>
            <a:chOff x="0" y="5994360"/>
            <a:chExt cx="7848720" cy="857160"/>
          </a:xfrm>
        </p:grpSpPr>
        <p:sp>
          <p:nvSpPr>
            <p:cNvPr id="7" name="Freeform 10"/>
            <p:cNvSpPr/>
            <p:nvPr/>
          </p:nvSpPr>
          <p:spPr>
            <a:xfrm>
              <a:off x="2362320" y="599436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" name="Group 11"/>
            <p:cNvGrpSpPr/>
            <p:nvPr/>
          </p:nvGrpSpPr>
          <p:grpSpPr>
            <a:xfrm>
              <a:off x="3946680" y="5994360"/>
              <a:ext cx="3902040" cy="857160"/>
              <a:chOff x="3946680" y="5994360"/>
              <a:chExt cx="3902040" cy="857160"/>
            </a:xfrm>
          </p:grpSpPr>
          <p:sp>
            <p:nvSpPr>
              <p:cNvPr id="9" name="Freeform 12"/>
              <p:cNvSpPr/>
              <p:nvPr/>
            </p:nvSpPr>
            <p:spPr>
              <a:xfrm>
                <a:off x="6267600" y="600552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4249800" y="599436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4809960" y="615456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5"/>
              <p:cNvSpPr/>
              <p:nvPr/>
            </p:nvSpPr>
            <p:spPr>
              <a:xfrm>
                <a:off x="5759280" y="611172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6"/>
              <p:cNvSpPr/>
              <p:nvPr/>
            </p:nvSpPr>
            <p:spPr>
              <a:xfrm>
                <a:off x="3946680" y="610056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" name="Freeform 17"/>
            <p:cNvSpPr/>
            <p:nvPr/>
          </p:nvSpPr>
          <p:spPr>
            <a:xfrm>
              <a:off x="0" y="599436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Group 18"/>
          <p:cNvGrpSpPr/>
          <p:nvPr/>
        </p:nvGrpSpPr>
        <p:grpSpPr>
          <a:xfrm>
            <a:off x="627120" y="6002280"/>
            <a:ext cx="5684760" cy="849240"/>
            <a:chOff x="627120" y="6002280"/>
            <a:chExt cx="5684760" cy="849240"/>
          </a:xfrm>
        </p:grpSpPr>
        <p:sp>
          <p:nvSpPr>
            <p:cNvPr id="16" name="Freeform 19"/>
            <p:cNvSpPr/>
            <p:nvPr/>
          </p:nvSpPr>
          <p:spPr>
            <a:xfrm>
              <a:off x="1898640" y="600228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3084480" y="605952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2905200" y="604980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1357200" y="608004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1120680" y="609912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627120" y="603072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" name="Group 25"/>
          <p:cNvGrpSpPr/>
          <p:nvPr/>
        </p:nvGrpSpPr>
        <p:grpSpPr>
          <a:xfrm>
            <a:off x="0" y="6470640"/>
            <a:ext cx="9144000" cy="380880"/>
            <a:chOff x="0" y="6470640"/>
            <a:chExt cx="9144000" cy="380880"/>
          </a:xfrm>
        </p:grpSpPr>
        <p:graphicFrame>
          <p:nvGraphicFramePr>
            <p:cNvPr id="23" name="Object 26"/>
            <p:cNvGraphicFramePr/>
            <p:nvPr/>
          </p:nvGraphicFramePr>
          <p:xfrm>
            <a:off x="0" y="6470640"/>
            <a:ext cx="4572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" name="Object 2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470640"/>
                      <a:ext cx="4572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" name="Group 27"/>
            <p:cNvGrpSpPr/>
            <p:nvPr/>
          </p:nvGrpSpPr>
          <p:grpSpPr>
            <a:xfrm>
              <a:off x="457200" y="6470640"/>
              <a:ext cx="8686800" cy="380880"/>
              <a:chOff x="457200" y="6470640"/>
              <a:chExt cx="8686800" cy="380880"/>
            </a:xfrm>
          </p:grpSpPr>
          <p:pic>
            <p:nvPicPr>
              <p:cNvPr id="26" name="Picture 28" descr="hi-res-iop-logo"/>
              <p:cNvPicPr/>
              <p:nvPr/>
            </p:nvPicPr>
            <p:blipFill>
              <a:blip r:embed="rId4"/>
              <a:stretch/>
            </p:blipFill>
            <p:spPr>
              <a:xfrm>
                <a:off x="5486400" y="6470640"/>
                <a:ext cx="365760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" name="Text Box 29"/>
              <p:cNvSpPr/>
              <p:nvPr/>
            </p:nvSpPr>
            <p:spPr>
              <a:xfrm>
                <a:off x="457200" y="6470640"/>
                <a:ext cx="5029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© WHO Collaborating Cent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0" y="6470640"/>
            <a:ext cx="9144000" cy="380880"/>
            <a:chOff x="0" y="6470640"/>
            <a:chExt cx="9144000" cy="380880"/>
          </a:xfrm>
        </p:grpSpPr>
        <p:graphicFrame>
          <p:nvGraphicFramePr>
            <p:cNvPr id="66" name="Object 1024"/>
            <p:cNvGraphicFramePr/>
            <p:nvPr/>
          </p:nvGraphicFramePr>
          <p:xfrm>
            <a:off x="0" y="6470640"/>
            <a:ext cx="4572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Object 102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470640"/>
                      <a:ext cx="4572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" name="Group 10"/>
            <p:cNvGrpSpPr/>
            <p:nvPr/>
          </p:nvGrpSpPr>
          <p:grpSpPr>
            <a:xfrm>
              <a:off x="457200" y="6470640"/>
              <a:ext cx="8686800" cy="380880"/>
              <a:chOff x="457200" y="6470640"/>
              <a:chExt cx="8686800" cy="380880"/>
            </a:xfrm>
          </p:grpSpPr>
          <p:pic>
            <p:nvPicPr>
              <p:cNvPr id="69" name="Picture 11" descr="hi-res-iop-logo"/>
              <p:cNvPicPr/>
              <p:nvPr/>
            </p:nvPicPr>
            <p:blipFill>
              <a:blip r:embed="rId4"/>
              <a:stretch/>
            </p:blipFill>
            <p:spPr>
              <a:xfrm>
                <a:off x="5486400" y="6470640"/>
                <a:ext cx="365760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12"/>
              <p:cNvSpPr/>
              <p:nvPr/>
            </p:nvSpPr>
            <p:spPr>
              <a:xfrm>
                <a:off x="457200" y="6470640"/>
                <a:ext cx="5029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© WHO Collaborating Cent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93CF-91C8-4FCA-BA76-F8894ABD4B9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A60B-A209-4E0B-979A-0A128384AD6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UNIT 4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MON MENTAL DISOR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is unit will cov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eneral features of  CM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pecific disor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3FA9-0370-479E-9CDF-2801A4068DD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pression Checklis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k patient and also care giver about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w mood or sad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ss of interest or pleasu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ss of energy/more tired than usu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‘yes’ to any of these, continue as next slide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if ‘no’ the patient is unlikely to be depress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23FE-0E71-40F3-9FF8-FDE69D2F2EE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umber of units of alcohol in a typical day when drink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umber of days per week having alcoholic drink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otal quantity =A x B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A0E5-5100-4EB1-9FF9-D9DE638C216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 -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drinking is above limit, or if there is a regular or hazardous pattern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k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been unable to stop, reduce or control your drinking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ever felt you cannot resist a strong urge to drink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A62-2CC9-4C60-A2A5-81CEDB1E354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 -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as stopping or cutting down drinking ever caused you problem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e shak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eing unable to slee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eeling nervous or restle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weat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eart beating fa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eadach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it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6CB-85D7-4015-8671-76719762F15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 -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ever continued to drink although you know it will make problems wors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s anyone said they are worried about your drinking eg your family or friend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EE59-F00E-4CE9-8C89-2F7D2A9D9DE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Checklist: summing up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A x B is over the recommended limit, it will lead to social and physical har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A x B is over the recommended limit and positive to 1-5, there is  alcohol depende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F899-58FD-4E75-BAE3-A217E80C94D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o tell the patient and family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lcohol misuse  is a serious illn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here may be family histor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o not get into argument about whether or not patient is dependent-it is the sheer quantity which causes har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ependence is only important in that it makes reduction difficult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topping or cutting down on drinking will bring benefits and enables some recovery of body organ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rinking whilst pregnant can harm the bab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Giving up alcohol is not easy – success depends on the patient wanting to give u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CE0D-B0ED-4675-BA7E-E016C433DC2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How to help the patien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he dangers of drinking and the benefits of giving u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r patients willing to stop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t a definite date to sto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withdrawal sympto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an how to avoid situations where he/she is likely to drin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dentify friend or family member who will provide suppo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2B61-F257-4F66-A781-37F6DD6BD0D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How to help: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ive advice on healthy ea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ive encouragement, not bla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r patients who relaps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ive praise for succ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dentify cause of failure and plan to avoid this next ti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turn to first steps and try agai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8BAD-F713-4230-8DC7-D32B7D4A428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For patients not willing to stop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 not reject or bla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he problems caused by alcoho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gree a further assessment in the futur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CEDE-9A00-4D95-978B-250BCEFEF91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tients with serious alcohol dependence and other severe health problems may need specialist care if availa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E146-5632-4490-A7C0-C5A6A852A32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pression Checklist: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turbed sleep – difficulty falling asleep, waking early in the mo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turbed appetite – either more or less than usu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or concent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gitation or slowing of movement or spee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oss of interest in se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oss of self-confidence or self-este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oughts of death or suic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-4852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eelings of guil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pression is likely i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sitive to A, B or C and at least four positive from 1-8 occurring most of the time for 2 weeks or mo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F22C-6551-408D-BD84-7AF59D097B4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role pla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make up a scenari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monstrate assessment of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quantity, frequency and type of alcoho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sychological , physical and social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gotiating manag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C96F-CD22-4847-8883-917A79B501F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1 DRUG ABUSE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e page 41 of WHOPHC guidel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16CD-FE43-4513-9533-290774F068D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resenting complaint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pression, nervousness, insomn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quest for dru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quest for help to with draw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toxic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ithdrawal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complications eg abscess, thrombos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4F00-B270-4457-91D3-FD2014653FE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 1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harm-eg injuries while intoxicat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sychological harm-eg symptoms of mental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cial harm-eg loss of job, family problems, crimina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2B65-92B8-40A9-AD20-ABA7A4EE165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 2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bitual/harmful/chaotic drug 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y controlling drug 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trong desire to use dru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olerance (can use large quantities without appearing intoxicat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ithdrawal eg anxiety, tremor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F3DF-9033-4248-88B6-6C2BE3BF7D1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isto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amin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vestigations (HB, LFTs, urine drug screen, hepatitis B and 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3C1A-0022-4354-AD30-6470FF92552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Essential information for patient and famil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rug misuse is a chronic , relapsing problem. Often requires several attempts to sto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bstinence is long term goal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rm reduction (stopping injection) is importa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topping/reducing brings benefi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rugs in pregnancy harms the bab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23B2-0F70-435C-9B38-1C048AFE861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Advice and support to patient and famil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cuss costs and benefi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formation about heath risk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ersonal responsibility to chang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lear advice to chang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sess and manage physical health proble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 solv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1BA3-C889-49DC-8F26-3E992AC482D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reject or bla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dvise on harm reduction strateg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int out harm caused by dru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gotiate goals for reduction /stopp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scuss strategies for avoiding high risk social/stressful situ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lf monitoring through dia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radual withdraw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FEC6-E364-4E23-ABEC-9678246ADE0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ubstance abuse role pla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make up a scenari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monstrate assessment of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quantity, frequency and type of subst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sychological , physical and social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gotiating manag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8840-9663-455D-908B-79C7747EEF8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o is at most risk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eople who ha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perienced adverse life events and social difficulties, for example, unemployment, single parents, homeless people, people who have no-one to confide 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d depression or another psychiatric illness bef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hronic physical illness or dis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cently given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mily history of depression,  suicide attempts and substance ab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290A-C869-4473-B4DB-DC9CB1EE552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2. ACUTE PSYCHOSI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e page 42 of WHOPHC guidelin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llucinations (eg hearing voices when no-one is there, seeing vision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trange beliefs or fea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eing afraid or confuse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amily members may ask for help with changes in behaviour which cannot be explained e.g withdrawal, suspiciousness, self-neglect or threat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374D-FD20-42E5-A575-63F9E6446C1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llucina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lusions (firmly held beliefs not shared by others in patient’s social, cultural or ethnic group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organised or strange speec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gitation or odd behaviou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treme and very changeable emo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3B56-1620-4CC8-BD12-6C6BFFB266A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sychotic symptoms can sometimes be caused b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isuse of some drugs eg khat, amphetamines, cocaine, cannab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lcoholis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fectious illness causing very high temperatur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pilepsy, brain abscess, tumour or other brain dise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5E14-B021-461C-9334-64DBA9AAB11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tell patient and family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gitation and strange behaviour can be symptoms of mental ill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eople often get better from th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-one is to blame for the ill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C07-C510-48D0-9261-44FD0084FBF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ke sure that patient and whoever cares for them are saf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ke sure patient’s basic needs are met eg enough to eat and drink, somewhere to liv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cause the patient too much stress; do not argue with the patient’s beliefs even if you think they are wro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criticise or confront the patient unless it is necessary to prevent them doing something to hurt themselves or oth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7134-3D18-4F98-AE76-1810AE197C6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Provide support and encouragement to patient, family and local communit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Mobilise community to give social support to people with severe and long term illnes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Mobilise CHW and public health technicians to organise sustained community support to patient and famil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Outreach and home visit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Encourage patient to return to normal activities as soon as possible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Advise patient not to take drugs or drink alcoho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Refer to specialist if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ignificant risk of suicide, violence or negl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fuse to take med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fuse to stop misuse of alcohol or dru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590-64B1-4ECA-9D75-4CC63BD3889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If prescribing medication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hlorpromazine available in PH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Use lowest dose possible to control sympto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vide support and supervision to ensure patient takes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onitor side-effects – treat as necessa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ntinue medication for at least 6 months after symptoms resolv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F58-A01E-49EF-89DD-21AD30F2A8D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3. BIPOLAR DISORD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e page 44 of WHOPHC guidelin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have episodes of depression, often severe; and at other times episodes of extreme excitement, called mani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not realise they are ill (“lack of insight”). Relatives may be the first to complai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F86B-55A8-4676-A2F5-EA394049B0F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is Mania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nia is a period of very high or irritable mood lasting at least a week and which is severe enough to disrupt work and social activities completel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 hypomania, symptoms may be present, but less severe and less disrupti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us at least three of the follow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D9D9-6A39-4686-BEBA-82D1DF69DFC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is Mania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ed activity or restless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apid speech which is difficult to interrup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ed speed of thin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ed self esteem or grandiose idea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ed for  less slee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asily distract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ss of inhibitions eg being unusually tactless or rude; making inappropriate sexual advances to strangers; buying expensive goods that are not neede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D9BD-FAFA-46A1-BE1F-7AC83A36951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Assess risk of suicid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What do you think about lif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300" spc="-1" strike="noStrike">
                <a:solidFill>
                  <a:srgbClr val="ffffff"/>
                </a:solidFill>
                <a:latin typeface="Verdana"/>
              </a:rPr>
              <a:t>Do you ever feel  that life is not worth living?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o you ever  feel hopeles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o you ever feel you would rather be dea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ave you thought of killing yourself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ave you thought how you would do i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ave you tried to kill yourself befo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Have you given away any of your possessions?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s the patient likely to act on the pla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f patient is making active plans to kill himself, this patient is at high risk and will need close supervision,  from family, friends and  health professionals.  If possible, refer to a specialist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A1BC-4463-4FB1-9706-29B31F28438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or depressive episodes, use depression slid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or episodes of mani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or general advice, see slides on Acute Psychosis; similar medication may be used to control over-excit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e: some patients will have only one episode of mania or depression and recover completely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5BC-ED1A-4BF5-9136-A66773BF583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r patients who have repeated episodes of mania and/or depression, specialist psychiatric help may be require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arbemazepine to prevent relap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615F-6663-4947-A84B-20D63B81FD1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4. SCHIZOPHRENI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e page 46 of WHOPHC guidel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1A17-C046-46D6-BADB-3C94CDFA394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is it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mmon serious mental illness characterized by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distortion of thinking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and perception and usually accompanied by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inappropriate or blunted emo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ought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ack of insigh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etachment from rea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elu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llucin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0E86-FAC3-4D18-A798-B8DE62AF651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resenting problem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dividuals may have problems with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earing voices when no-one is aroun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ange belief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sturbance with thinking or concentr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naging daily activities including meeting own physical needs e.g wash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naging social interactions, work or stud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01BD-D0C1-4583-B896-4F12CEEAD2C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resenting problem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amilies may ask for help with the individuals’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ange, frightened or annoying behaviour (e.g. irritability, suspiciousnes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pathy, withdrawal or poor living skil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533A-BBA6-435E-A689-98AEDE66DE8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i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client must show the signs and symptoms for at least a month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Hallucinations</a:t>
            </a:r>
            <a:r>
              <a:rPr b="0" lang="en-GB" sz="26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eeing, hearing, sensing or tasting things that other people do not see, hear, smell or tast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Voices talking about pati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Delusions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.g. a person may believe that he or she is Jesus or the, Virgin Mary; or he or she is being followed, poisoned or experimented upon or controlle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B82B-1CF1-4AB7-83DD-C80D0F99816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is Continue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Thought interfere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in which the person believes that thoughts are being inserted into or withdrawn from the mind; are being broadcast to others; or are being echoed in the min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Disordered thinking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resulting in incoherent or irrelevant speech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Negative symptoms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include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xtreme apath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lunted or inappropriate a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oss of initiative and dr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ocial withdraw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8708-DC9D-4243-A9DE-EED54B62FF7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fferential diagnosis: What to do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orough assessment to exclude organic factor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Substance abus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can present  with delusions, hallucinations and abnormal speech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Severe (psychotic) depression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can presents with delusions and auditory hallucinations (voices talking to patient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Verdana"/>
              </a:rPr>
              <a:t>Mania</a:t>
            </a:r>
            <a:r>
              <a:rPr b="0" lang="en-GB" sz="2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lso present with delusions and hallucinations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0930-9A07-4573-9CB4-357AD974288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urse of Schizophrenia 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1. Prodromal sta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 general loss of intere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voidance of social intera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voidance of work or study (dropping out of school, work, college etc.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eing irritable and oversensi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Odd beliefs (e.g. superstitiousness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Odd behaviour (e.g. talking to self in public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33C-6428-428E-AB17-222F1102477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xplain ‘depression’ to the patient and their family  stressing that its treatable and not a weakn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Give advice on good health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at a healthy di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ake regular exercise (proven to help depress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ut down on alcohol; don’t take drugs; do not sm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ut down on caffeine (coffee, te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pressed people may not think so clearly about personal safety so reinforce Safe Sex message –use a cond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courage patient to talk to fami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frie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D61F-DE83-4425-8EC0-C061DAF40E0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urse of Schizophrenia         2. active phas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sychotic symptoms such as delusions, odd behaviour and hallucinations are prominen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ften accompanied by strong affect as distress, anxiety, depression and fea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2254-0228-479A-B7D9-D4938AABB36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Course of schizophrenia 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3. Residual phas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imilar to prodromal ph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lunted affect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mpairment of role functio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696D-0B11-4A90-8E8C-2024CCE3ABF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nagement of acute episod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1. think Bio-Psycho-Social 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2. maximize the safety of the individual and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3. reduce symptoms of psychosis and disturbed behaviou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4. build a therapeutic relationship with the individual and family (carer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5.develop management plan to aid recovery from acute episo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B1F1-B68B-4235-B0FB-A486F834B66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ximizing safety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ork as a tea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sess the risk of harm to self and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move dangerous objects that might be used to either self harm or harm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 patient may need to be observed for some time at the PHC premis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1A87-96F0-4B04-9848-A0BE070D6C3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duce symptoms and disturbed behaviour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ti-psychotic medic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Chlorpromazine 50-600 mg daily (50-200mg three times a da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luphenazine deaconate 12.5 – 25.50 mg month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D93A-5F24-4978-9DDC-C8437B59F1B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ide effects of Anti-psychotics 1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kathisia- an intense feeling of restlessness in legs. Tend to relentlessly and feel unable to sit stil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rkinsonism – muscle stiffness, rigidity of the arms and legs, Tremors especially of hands, loss of facial expression, slowed movement or akinesia, stooped postu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ardive dyskinesia- abnormal involuntary movements of the face, eyes, mouth, tongue, trunk and /or limbs occurring after 6 months to 2 years or more after commencing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0A89-C751-458A-A4C2-8CD522A10E4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ide effects of Anti-psychotics 2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The eyes roll up and the individual is unable to look down (Oculogyric crisis or look-ups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Spasms of the neck muscles where the neck is flexed backwards or to the side (Torticollis or retrocollis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Spasms of the jaw muscles, tongue and flow of the mouth (Trismus or lock-jaw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</a:rPr>
              <a:t>Laryngeal spasms which may cause difficult in breathing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1C41-2FD8-4E56-AB1D-392153FCABA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onitoring, Recognizing and Managing side effect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dication side effects can be extremely disabling and distressing, and a major reason for lack of adherenc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ome side effects can be eliminated, reduced in severity, or made more tolerable using a range of simple strateg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ecreasing the d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aking divided d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aking medication with appropriate fo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aking extra medication to conteract side effects e.g. Benzhexol (Artane, Broflex) 2-15mg daily, Benztropine (Cogentin) 0.5 –6mg dai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886A-F99B-4617-955A-D82B22B653C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oints to rememb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tipsychotics  can take several weeks to reach full effec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 brief psychoses, treatment may be reduced gradually after 2 weeks. If symptoms recur, return to original dose, continue for 3 months and then withdraw them agai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Schizophrenia for at least  a yea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mania until symptoms subside and for 3 months thereafte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AA6B-2934-4B39-A31B-C3B36E265E6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ducing symptoms and disturbed behaviour on long term basi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sychological interven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w stimul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w str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Minimize stressor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Avoid arguing with the individual on delusional idea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Avoid confrontation or criticism unless necessary for preventing harmful or disruptive behaviour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2835-5236-486A-9F27-149652DABC0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the patient identify stresses or problems in their life and make plans to deal with them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t short term go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view regularly with pat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void major decisions or life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Help patient plan short term activities which will give pleas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25CB-A1A2-4310-AF7C-716C57C8172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ducing symptoms and disturbed behaviour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igh levels of suppo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Show empathy and concer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evelop trusting relationship with the client and family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sycho-education to minimize anxiety and confusion, to individual, family and community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rotecting social relationship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EF5B-47F7-4A24-839C-BDA28D84CBF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Building a therapeutic relationship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alth worker-patient and family relationshi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gage community health work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gage commun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E08C-5B0C-4185-A3AF-890126DB464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Building therapeutic relationship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of social relationships in  recover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ressing emotions and receiving reassura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ality tes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actical feedback from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nstancy in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upport from fami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AAA2-523A-4969-A658-A75246A16E3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Long-term management of Schizophrenia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ng term management crucial to improve the health and social function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uctured Problem solving: to reduce, minimize and help control stress and anxiety in daily liv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mmunication skil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hysical healt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ifestyles- dietary habits, smoking, alcohol consump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dherence to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576A-622E-435F-9C34-564C1072C70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Long-term 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llow-up including home visit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habilitation- work skil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lf-help grou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mmunity suppo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1D70-556A-4D87-8FB7-E161358A64D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Psychosis-prepare some management plan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DD93-3E58-46C9-A075-48F289E428B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sychosi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16A6-B7A1-4CEA-801D-78F91FC73D6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4.15 CHILDHOOD AND ADOLESCENT DISORDERS - Overview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10-20% of young people may have mental or emotional disorder warranting treatment at any one ti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ny psychiatric disorders have an onset during childhood and adolescence, and so impair education and vocational choic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5A6F-BA89-4864-B812-868709752CF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velopmental influenc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tellige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empera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amily environment including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ltreat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rental ill-healt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hronic and severe physical ill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4DD4-32D5-4814-948C-1B7549A75C1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Issues in assessing children and adolescent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btain information from several informants e.g. Parents, school teach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ystematically assess all potential areas of psychopatholo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chievement of developmental mileston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ears, phobia, obses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epressive symptom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nattention, impulsivity, excessive activ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ggressive, delinquent, and rule breaking conduct e.g. stea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roblems with lear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F370-CACF-491A-8DE8-6378A49BC08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42880" indent="-542880"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f depression has lasted 4 weeks or more and is affecting the patient’s ability to cope with daily life, medication may be necessar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mitryptyline if patient is anxious or can’t sl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mipramine if patient is letharg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tart with  25mg daily, and gradually build up to 50-75 mg a 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50mg a day will work eventual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80160" indent="-41616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75mg a day will work quicker if can tolerate side eff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7234-32E4-4493-AFB2-45819E64EA5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ssessing children and adolesce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izarre or strange ideas and behaviou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Use of alcohol and drug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Relationships with parents, siblings and peer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k about abuse and suicidal behaviou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termine the significance of symptoms given the child’s 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sess impairment in function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dentify strengths and resources in the child and fam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termine the quality of the family environ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nduct Mental State Examin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23A7-84C9-4DB3-ACBE-DF024C58AA5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mmon childhood and adolescent disorder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motional disord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pre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nduct disord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HD- Attention Deficit and Hyperactivity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ruanc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yslexia- Difficult with stud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EFE5-0316-489E-94F5-3407CACF241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6. EMOTIONAL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ee page 54 of WHOPHC guidelin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epression- A common problem in adolescent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Often presents with physical symptoms, frequently related to school work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Common features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Headache and other aches and pa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ifficulty in concen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or slee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oss of appeti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ithdrawing from family and frien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9C7D-7E08-4EF2-BA7C-6BC933DDEE1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pression features continue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eeling bad about oneself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Becoming moody and irrita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eing life is pointl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uicidal feelings and ide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rritabi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A173-ABBD-401A-8832-EABCC21DE71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Effects of Depression in adolescent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oor school performa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oor relationship with family and friend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creased risk of self harming (even suicid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rug or alcohol mis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468A-B6EA-4782-9DBA-95F8FA8860C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sess the situation with parents and adolescent to identify the problem and cause and meaning of the problem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ow has your health been recently? –sleep, concentration and emotio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ve you been worried about anything recently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ve you shared these worries or concerns with anyone els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ve you felt like ending your life? How often? Since when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s anyone hurt you recently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Have you been drinking alcohol or taking drugs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5294-8C98-4817-96EE-BC5CC13DA8D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isten to the adolescent’s account of his/her feelings and concern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the adolescent to make the link between his/her feelings and stressful situation is facing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uggest that you could talk to his/her parents (and teachers, if possible) and share the concerns with the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ke practical sugges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95AB-4C8B-49DE-B5A9-F2F94002C80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each the adolescent problem-solving techniques to cope with str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not to use alcohol or dru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ollow-up review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none of the above steps help, give anti-depressants. E.g. Amitriptyline 25mg Orally at nig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3158-7837-4AF4-8126-B067F611944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Emotional disorders in children and adolescents-Discus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seen these problem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have you intervened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else do you think you can do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FC67-7465-49B2-964A-532EEEBDA40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4.17. CONDUCT DISORD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ee page 55 of WHOPHC guideli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0FA4-A5AD-4717-9DF8-6DEBE684945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ll patient and relative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ake medicine every day, and supervi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It will take two or three weeks before he/she starts to feel better and six weeks before recover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Continue with medicine for at least four month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o not stop taking the medicine sudden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here will  be side effects at first, but these will be manageable if explained in advan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ake dose twice a day or all  at night to manage sedative effec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p water regularly to manage dry mouth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B Caution with antimalarials as tricyclic antidepressants and chloroquine both prolong cardiac QT interv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o not give if known or suspected  heart disease. Consider new antimalarial, or discontinue antidepressant while antimalarial take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D84C-F4AB-4B16-9F7D-2AA6EABE964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efinition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mpaired functional behaviour characterized by constant conflict with adults and other childre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tisocial behaviour leading to exclusion from school or trouble with the law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6BD0-52F6-4E25-A911-6EBCD75A40F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auses/Facto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aumatic life experi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jection or emotional abu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arsh punish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osti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oken relationship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tic vulnera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ack of positive joint activities with the chil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sufficient prai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or monitoring of the whereabouts of older childr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ol failu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5E63-A9C6-4EC1-8162-0B30E9D3E76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gression to people and anima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ullies, threatens or intimidates oth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ften initiates physical figh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as used weapon that could cause serious physical harm to others (e.g. knife, stick, stone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hysically cruel to people or anima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eals from a victim while confronting them (e.g. assau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y force someone into sexual activity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0D4D-3C08-4E33-A1FF-8697A3379DE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struction of proper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liberately destroys other’s proper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liberately engaged in fire setting with the intention to cause dam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ceitfulness, lying or stea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es to obtain goods, or favor or to avoid oblig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als items without confronting a victim (e.g. shoplift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eaks into  building, house or ca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respasses into someone else field and cause destruc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905A-DC51-4CFC-89BA-33746C6D003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rious violation of rules and regula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ften stays out at night despite parental obje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ften truant from schoo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uns away from schoo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y be involved in gang groups; take drug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5C8-9505-40B9-8BEF-F9CC2E08230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petitive, persistent and excessive antisocial, aggressive or defiant behaviour lasting six months or mor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ppositional-defiant disorder in young childr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gry outburs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oss of temp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fusal to obey commands and ru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structivene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itt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0655-3122-4520-8EBF-2BAE425CDDB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 older children and adolesc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andal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ruelty to people and animal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y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ealing outside the home, sometimes in-hous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ruanc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rug and alcohol misu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riminal ac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ppositional-defiant behaviou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7B33-65B9-4775-9FCB-1FCC95F156B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fferential Diagnosi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 Deficit/hyperactivity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yperactiv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pressive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pecific reading retardation (dyslexia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ralized learning disabi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tism spectrum disord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djustment reac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E212-6F01-4507-B143-394A9661A7D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member: Antisocial behaviour is learnt and can be corrected by un-learning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horough history is essentia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ducate parents and the child on “effective communication” by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Promote positive joint activities between parents and chil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Encourage praise and rewards for specific agreed desired behaviours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Set clear house rules and give short specific commands about desired behavio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Provide consistent and calm consequences for misbehaviour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Avoid arguments with the chil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Monitor the whereabouts of teenager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et to know his/her friends and par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eck with par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ducate the child on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Anger management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Goal setting, and self control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Work with parents and teachers where appropriat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reat any co-existing condition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59B7-5282-4AD0-9708-EBA44552307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nduct disorders-discu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seen these problem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have you intervened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else do you think you can do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8834-FDF9-4E0F-8623-20D1FD1E773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f available, some ‘talking treatments’ may be helpful, for exampl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gnitive behavioural thera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terpersonal thera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ructured Problem Solv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eferral to a specialist may be necessary i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ignificant risk of suicide or danger to others which cannot be managed safely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f depression persists after a course of treatment in primary 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911A-6BB7-42BB-A988-FE384DB4A84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8. ADHD (Attention deficit hyperactivity syndrome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esentation (p57 of WHOPHC guidelin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stless; unable to sit in a chair through a full les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idgety, chattering and interrupting peo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ifficulty in concentration or paying attention e.g. unable to complete home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asily distracted and not finish what they have start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mpulsive- suddenly doing things without thinking fir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able to wait their turn in games or in talking to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tremely demand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oblems with learning and stud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isorganized and untid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2A49-6068-43C4-8909-6A8E3ACC530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Effect of ADHD in child’s lif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t ho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ifficulty to discip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rritates parents with his impulsive behaviour and not listening to th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t schoo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oor performance in stud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rritate his teacher with his inability to sit quietly and interrupting the class   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t pla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rritates his pe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279D-181C-4B06-B182-4B314C269BF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DHD: What to do 1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 thorough history and assess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ducate and support parents on dealing with the chi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aintain consistency and structure: routines, stated expectations of behaviour family ru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t realistic expectations, short-term goals and praise succ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793C-82E6-44CE-A474-37F724B1330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DHD What to do 2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mote positive interactions with the chi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nsure adequate slee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stablish constructive communication with schoo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eep confrontations to a minimu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fer for specialist care if no improve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BE93-C97E-4D73-B12E-AEF3DBBF9CD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9. Dyslexia: Learning difficulti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ge 58 of WHOPHC guidelin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earning difficulty  that affects  ability to read or deal with numbers , irrespective of intelligenc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blems with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Concentration, perception, and memor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Verbal skills, abstract reasoning, hand-eye coordin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ocial adjustment (low self-esteem), poor grades, underachievemen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CFAE-53FC-4A4A-A2F1-F2975B5E335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 child may have difficulties with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pying, spelling and writ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Understanding instru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umbers and mathemat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ad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ehaviour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AB88-5F1A-41B5-B24E-764E1B89392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aus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uro-biolog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y be aggravated by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arge class siz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oorly trained teach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anguage not commonly used at ho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E591-4829-4260-9907-13AFEEE3B92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Other Caus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ntal retard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pre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nduct disord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fficulties with hearing or vi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rug mis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+++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4EC8-C738-4B70-A7A6-2DA78063DDD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 1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member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 dyslexic child is not stupid, dumb or thic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eachers, parents and mental health worker need to work together to help the chil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AB08-2A83-4923-9D51-F6C908078D2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 2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honetic reading and writing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tra individual help with numeracy and literac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tra time in exa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ntinued suppo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yslexic children can be very intelligent, but get frustrated by their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rucial to assist as much as possible as early as possible to enable children to progress educationa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0EA-B1A9-4361-AFDC-48890BA75DD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how video of depress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 video demonstrates assessment and management skil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re may  not be time to watch the whole video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allow enough time afterwards for the role play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5A09-A428-42E9-A2F6-C651BBC2A9E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aison with school autho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child should be helped to learn at her /his own pace with such help a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tra tutoring-but not too much to exhaust the chi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mework to be given early enough and left on the board long enough to ensure every child got it righ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ition the child in front sea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lping the child to learn through more than one of the sense (Multi-sensory teaching methods) including touch and move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3190-D7BA-4F43-9EDA-1F62C9F7D5B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arents should assist dyslexic children with assignm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ildren should be helped to build self-confidenc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et the child identify his strengths and weakne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scuss objectively and  build on strength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romote positive think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raise the child for all achievements, both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n-academic and academ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B: Dyslexic children are good at other things that are valuable in their life- build on that as wel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FD31-8E65-454A-B444-BEA64C0BF50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yslexia-discu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 you know anyone with dyslex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do you think PHC can do to support children and parents and teacher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61AE-ADF0-47B6-ADE4-11FE989E2E3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4.20. ASD (Autism Spectrum Disorder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e page 59 of WHOPHC guidel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mpairment in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mmunication skil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cial intera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stricted, repetitive and stereotyped patterns of behaviou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B91-0B24-4385-ACFD-C6CF3B5912D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aus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tic facto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?abnormal brain development in early lif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BD1-9287-4C2B-9B25-7EB97CC174E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arents may complain of obvious developmental problems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nresponsive to people, or focusing intently on one item for long periods of ti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utbursts of cry or screaming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95BC-3A15-4BE6-941A-DC205F7357F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bnormal or impaired development before the age of 3 in at least one of the follow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lective social attachment or reciprocal social intera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ceptive or expressive language, as used in social commun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stricted, repetitive and stereotyped pattern of behaviour- functional or symbolic pla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FEBE-7D07-4F5F-ACE2-1C2A6E29887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cial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voids eye contact, seem indifferent to others &amp; prefers being alo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interacting reciprocally with others-slower in learning to interpret what others are thinking or feeling as such ma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78720" indent="-387360">
              <a:lnSpc>
                <a:spcPct val="9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gnore other people or be insensitive to their needs, thoughts and feeling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seeing things from another perspec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regulating emotions e.g. crying in class or verbal outbursts that seem inappropriate to those around th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7BCD-11AF-478F-AA26-0B9985FBA0D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mmunication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layed language development with no effort do s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e of language in unusual ways-repetition of phrases or words over and ov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Young children may show little interest in the speech of oth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understanding body language, tone of voice, or phrases of spee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ies in expressing own body language- facial expressions, movements and gestures rarely match what they are saying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 to let others know what they nee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ome may remain mute throughout their liv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5284-8368-49E2-8F37-5882E3EF995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agnostic feature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ehaviour difficult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dd repetitive motions e.g. flapping arms or walking on their toes. Some suddenly freeze in positio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outinized behaviour, resistance to change- a slight change in any routine can be extremely disturb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nusual persistent, intense pre-occupation or interests e.g. intellectual, a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2B3-1F75-4176-AD82-9F36D31B9B6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UNIT 4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press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omatisation-hapa hapa syndr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xiety, phobias and PTS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leep  disor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ating disor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xual disor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lcohol and substance abu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cute psychosis, bipolar disorder, schizophren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ildhood emotional disor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ildhood conduct disor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yslex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DH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utis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arning disabi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ild abu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6438-C2BA-41D6-9CEF-CF4940A4628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ole play depress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 8a and 8b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 always, 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4EBA-44A8-4ECF-8A1C-8C323556C1B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blems that may accompany ASD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nsory proble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nsitivity to certain sounds, textures, tastes and smel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ental retard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izur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A544-8334-4FD7-BF67-A4F7EEA9E71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fferential diagnosis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ttention-deficit/hyperactivity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earning disabi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pileps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823-CD96-4578-8273-018037FC432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orough history on behavioral characterist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xclude other problems- thorough investig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dentify patients strengths and potentials and build on the strength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mily education and ongoing suppo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goal is to help the child develop to the fullest potenti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F88E-B9D6-45B9-AC8B-18B1A9D52C1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ilds’ educational placem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pecial schools vs mainstream with extra attention and assista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ehavioural management to reinforce desirable behaviour and reduce undesirable o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BB0F-F280-4E22-8212-21711DF92EC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 effective treatment program will build on the child’s interest, predictable schedul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ach tasks as a series of simple step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tively engage the child’s attention in highly structured activi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vide regular reinforcement of behaviou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volve parents, teachers and other professionals e.g. social work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9A9-8CD5-4068-AAF1-11BCE5EC701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hysical activity to develop coordination and body awarenes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hildren string beads, place puzzles together, paint, and participate in other motor skills activiti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cial interaction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ow to use langu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uctured activities that will help children learn social skills and functional communic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mited rol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reat co-existing problem e.g. epileps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E8C1-1F48-4949-90E3-275A348F3CA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21. Learning disabili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is is slow or incomplete mental development resulting i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Difficulties in learning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Problems with social adjustment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390B-B98B-45F6-9130-F54316AC22C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Learning disability-rang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re is a wide range of severit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Severe – the person will need help with daily tasks all their life and will only ever have very simple speech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Moderate – the person may be able to do simple work with support and will need guidance and support in daily task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Mild – the person will be limited in school work, but will be able to live alone and do some kind of paid work as an adult.</a:t>
            </a: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6A85-7BE6-43C3-8629-5B7BDCDA36C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auses of learning disability 1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enetic conditions such as Down’s syndrome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s before the child is born e.g. poor maternal nutrition, excess alcohol consumption during pregnancy, mothers’ infections during pregnanc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s during childbirth- e.g. Prolonged labour, birth traum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99B-BEE1-475C-9706-7C273BF8292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auses of learning disability 2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s in the first year of life- e.g. infections of the brain, severe and prolonged jaundice, uncontrolled convulsions, accidents and severe malnutritio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oblems in the way the child is being looked after, e.g. poor stimulation, child abuse and emotional neglec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6EE5-8705-4FE5-94B1-F73FDDE2F9A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Role play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 assessment of suicidal risk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vide into groups of three (patient, relative, health worker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ke up a scenario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alth worker to carefully establish degree of suicidal risk, using the series of questions on page 35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E813-7A82-4C95-A8B9-9FE678F3CFD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cognition of Learning Disability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t birth – unusual faces or failure to thrive eg Down’s Syndrome. A few conditions are treatable eg hypothyroidis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 a child: delay in normal development; not able to do school work as well as other children; difficult behaviour; poor socialisation; may be the target of bully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549E-347E-439E-B939-F940069D3CE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ecognition of Learning Disability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 adolescence: difficulties with peers; social isolation; inappropriate sexual behaviour; difficulties forming relationships and developing independ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 adulthood: difficulties in everyday tasks – needing support; problems in establishing independent life – marriage, work, child-rearing; inappropriate sexual behaviour or other antisocial behaviou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8D8F-38E0-4B47-9044-D1B20A17261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o famil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arly training can help towards self-care and independ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eople with Learning disability are capable of loving relationships and have the same basic needs as other peop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udden changes in behaviour may mean the person is ill and needs medical hel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D128-A6B1-4369-A3A0-4F6391D4482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famil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ward effor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each the same set of social rules as to other childr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earning and practising skills is helpful but the ‘miracle’ cures do not exi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Other advice will depend on what facilities are available locally –</a:t>
            </a:r>
            <a:r>
              <a:rPr b="0" i="1" lang="en-GB" sz="3000" spc="-1" strike="noStrike">
                <a:solidFill>
                  <a:srgbClr val="ffffff"/>
                </a:solidFill>
                <a:latin typeface="Verdana"/>
              </a:rPr>
              <a:t> please add as necessa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56DA-A599-49FD-AA40-2693005F88C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mmon problems in the chil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functions; ability to walk and using hand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lf-care; ability to feed, bathe and use the toilet independent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mmunication with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cial functioning:; e.g. playing with others, being bulli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disability in severe ca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ental ill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DDED-F8DD-42D2-8BDA-9CBD2548D85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en should you suspect learning disability  in a child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layed in achieving key milesto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ies in school work and playing with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 able to carry out instruc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hildren after cerebral malar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41DB-46E1-44D1-B025-DA0E5FC5FC5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hen should you suspect learning disability in an adolesc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ies in social relationships with other adolescen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hows inappropriate sexual behaviou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s not able to learn the same rate as other students in cla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7C2E-FB4C-44FB-85EC-58E58B09647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en should you suspect learning disability in an adul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ies in everyday functioning e.g. cooking, clea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s problems in social adjustment e.g. making friends, finding w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C08F-8536-4821-836C-C4D94F3B992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nagement of learning disability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orough assessment: Physical, Cognitive, psychological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intain therapeutic working relationship with the child and fam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ng term support from health, education and social secto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E04C-2C30-4576-8F35-842FCAFCD19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Management of learning disabilit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ducate the parents on proper manag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vel of expectations of  chi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tivities should be broken into smaller pa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imu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se of rewards and praise when the child succeeds in any activ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arents should not overprotect the chil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upport and supervi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ocial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ild can continue to learn through  adulthood-continue educational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D77-E84D-4917-8A4E-97954F0647F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 2. UNEXPLAINED SOMATIC SYMPTO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e page 38 of WHO PHC guideline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 ha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hysical symptoms which do not go away despite negative  investig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Frequent consult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may have underlying  anxiety and/or depress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ome patients may want relief from their symptom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thers may be convinced they have serious illness in spite of negative investig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C771-B1B6-4BC6-9F9A-01162D091BA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edical Managemen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edicine has very little role in mental retardation except in control of seizur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ticonvulsa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316E-5AC9-43FF-A145-05D07ECA42A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Learning disability-discu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many cases do you se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do they present to you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can you support familie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62E0-1ABB-4630-8DAC-BC641FECAF3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4.22. CHILD ABUSE AND NEGLEC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E22D-48EC-406B-8705-39B750AD727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ntroduction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allenge associated with social stigma, that occurs frequently in the privacy of family homes and that may result in severe consequences if disclose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st victims suffer in sile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694E-713E-43C4-8C82-439147981E9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efinition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y mistreatment or neglect of a chi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sulting in non-coincidental harm or injury that cannot be reasonably explain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cludes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hysical ab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motional ab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xual ab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eglec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843E-E34D-4083-ABC9-A2D4597C33C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actor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isk facto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ver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iol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ntal healt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sabi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ther facto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or parenting skills and lack of understanding about child develop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ycle of abuse &amp; domestic viol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ubstance abuse in fami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een moth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9DA1-285F-4081-B46D-048A980D1F6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onsequenc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velopmental delay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ental health proble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linquency-drug mis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unaway and living rough- street childr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EEA-0914-4F63-B05A-EB14AE5A8F5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ifficult to get inform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killful observation and assessment is importa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hildren may present with complaints of the consequences of the ab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1F6-2D2F-47ED-B4C4-9BF3A9FF7C0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gns of physical har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ultiple superficial injuries e.g. bruises, abrasions, cuts, cigarette burns etc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ractu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tinal &amp; subdural haemorrages in non-ambulant childr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ailure to thrive and short stat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isoning, asphyxi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layed immuniz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ntreated medical condi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xually transmitted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B477-ECFE-4832-8A0B-ADBCAF3C245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esenting complaint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gns of psychological harm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epression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Anxiety and fear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Inability to trust or love other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Low self-esteem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Fear of entering into new relationships or activitie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Conduct or oppositional defiant behaviour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eliberate self-harm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exualized behaviour inappropriate to age and stage of development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ubstance misuse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leep problem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Flashbacks, nightmare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ducational under-achievement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ocial isolation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0FEF-80DC-4493-8E88-EABA8D12238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knowledge that the physical symptoms are real to the pati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vestigate physical sympto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f no physical illness, explain that stress can cause sympto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plain link between physical symptoms and st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assurance that no serious physical diseas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ncourage exercise and enjoyable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laxation methods may hel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ncourage patient to deal with any problems in their lif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ructured problem solv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418E-B1E0-487F-8BDA-440988C3C3A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member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hild abuse and neglect is often disputed or denied by parents and alleged abuse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re may be delays in seeking medical help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re may be inconsistencies in history/ explanation and not compatible with the injury or child’s development (in trying to protect the abuser or the child fearing further abuse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1E7C-7FC1-4D34-AEF2-F4D8AA54125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to do;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ffective interviewing and observation skil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ttend to immediate medical and psychological need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epare a comprehensive treatment plan including help for the child, the non-abusing care giver, siblings and the abus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llow-up the fam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upport the child and fami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unse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reatment depends on the nature and sequale of maltreat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C334-4BD8-4723-8C55-046F2F0C554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hild Protection issu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rise if patient under 18 and claims abuse at home, school or in a children’s home as, if they return, they risk being abused agai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patient fears another child is being abus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alth workers are responsible for protecting children from significant har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nsult district child protection officer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1B3-98CE-4056-B8E8-BDE6221D852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hildhood abuse-initial ac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isten sympathetical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duce self bla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sure patient is saf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sess risk of suic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obilise suppo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F8A4-8FA7-4A47-8A65-911C9E89CCE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Childhood  Abuse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Potential Long Term Effects 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elplessness, vulnerability, sensitivity to shaming and humiliation, difficulty asking for hel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oss of confidence, assertiveness and tru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lf harm, aggression, risk of abusing oth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pression, despair and suicidal though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ubstance ab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lationship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ating disord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blems with sexual ident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B52E-8432-498D-B22E-B35037FFEF5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Avoid too many investigation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prescribe medication for each new sympto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dvise patient not to drink alcohol or take other dru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depression if present (see Depression slide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gular, scheduled short appointments may prevent too many urgent vis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C16B-6131-45CA-A436-E2782BE11EE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how video of somatis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is video is on same CD as the depression video but is a separate fi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t is very long, and it wont be possible to watch it al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allow time for role play afterwards!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A9CF-3235-47EA-843C-51EA4E095E9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omatis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Feeling understoo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Broadening the agend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eedback resul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knowledge reality of pa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Making the link with str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 wonder if…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Negotiating  treatmen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plore patients view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knowledge roles and conce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oblem solving and coping strateg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lax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tidepressa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39E5-D693-44E9-9351-F9F1341A768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Negotiating a treatment contrac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frame symptoms as depre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ink to life even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k for feedback from cli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egotiate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vide information about antidepressants-  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ide effects, not addictiv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ork with patient on problems (self, life, practical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t realistic time scal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et each week to review until improv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062C-73E2-4DDA-AF6B-29403AF9F11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ole play of somatis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s 9a and 9b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 before, 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lease demonstrate some of the skills you have watched on the vide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2FA5-0F62-475A-8469-AB568AF9C66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3. DISSOCIATIVE DISORD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ee page 39 of WHO PHC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 patient may have unusual or dramatic physical symptoms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izures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oss of memory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eing in a trance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oss of feeling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isual disturbances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aralysis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ability to speak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nfusion about who they are or appearing to be ‘possessed’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he patient does not produce the symptom(s) intentionall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D17D-BA41-4E29-A529-C108E539C69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SYMPTOMS OF COMMON MENTAL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12960" y="162864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xcessive concern about bodily symptoms (headache, backache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oss of enjoy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ow moo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ry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nxiety and panic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625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tigu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oor concentr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mpaired slee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mpaired appetite and weight lo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rrita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ow libid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bsessional thoughts and a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4ACB-8CF4-4BD7-9981-E6554A2AAC1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 physical symptoms are unusual and do not fit any known dise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y come on suddenly and are usually related to stress or difficult personal circumstanc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y may b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ramatic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Change from time to tim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Be related to getting attention from other peopl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949C-5010-4E31-8CCF-AAA74E15F69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other unexplained symptoms are present, see slides on ‘Unexplained somatic symptoms’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depression if present (see Depression slide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ive advice to patient and family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hysical symptoms often have no clear physical cau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ey may be brought about by stre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ey usually resolve quickly leaving no permanent dam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5A12-334B-4BC6-9B37-7870216ADA0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 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ncourage patient to acknowledge recent stress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dvise patient to take a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Verdana"/>
              </a:rPr>
              <a:t>brief 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est and relief from stress, then return to usual activit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ncourage problem-solving for difficulties; give positive reinforcement for improvement; do not reinforce symptom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dvise against a long period of rest or withdrawal from activit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Medication not usually needed unless patient is depresse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f patient is having hysterical fits or hysterical paralysis which do not settle spontaneously, then 10-20mg iv valium can terminate the attack and enable the health worker to interview the client. Do not continue the diazepa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80D5-7072-46DC-8EBB-4AA35341E14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4.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e page 37 of WHOPH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What is anxiet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ay be a perfectly normal response to stressful life events or circumstanc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nly an illness if  no obvious stress or threat, or worse than the situation warr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ost anxiety is mixed with depression, and can then be treated as for depression-see abo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f no depression present, proc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1E07-1209-41D2-A119-F6B242C3605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Common Types of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Generalized Anxie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nic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obic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AD77-AA25-40A7-9DE5-E9AF4F8E908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at the patient complains of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ymptoms of tension – headache, pounding heart, cannot slee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udden unexplained physical symptoms eg chest pain, dizziness, shortness of brea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tense fear of collapse, heart attack or str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ymptoms of anxiety either in or when thinking about certain situations which are not frightening to most peo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7C26-D5CE-468D-ADDE-0100A7C75AF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 Checklis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k if the patient i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eeling tense or anxiou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orrying a lot about thin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YES to either of the above, continu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8C90-2326-4833-90DA-440E01BA148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 checklist,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ymptoms of arousal and 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erienced intense or sudden fear for no apparent reason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ear of dying; Fear of losing control; Pounding heart; Sweating; Trembling or shaking; Chest pains or difficulty breathing; Feeling dizzy, light-headed or faint, Numbness or tingling sensations; Feelings of unreality; Nausea.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F304-F810-4B58-9F4A-21A606DDCC0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 checklist,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ff"/>
                </a:solidFill>
                <a:latin typeface="Verdana"/>
              </a:rPr>
              <a:t>3.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Experienced fear/anxiety in specific situations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g. Leaving familiar places; Travelling alone; crowds/confined spaces or public plac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erienced fear/anxiety in social situations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g. Speaking in front of others; social events; eating in front of others; worry a  lot about what others think; self-consciou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80FE-57A6-43BC-8C90-9FF6599A6AF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nxiety checklist: summing up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f Positive to A, B and 1, happening regularly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Generalized anxiet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f positive to 1 and 2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possible Panic Disorde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f positive to 2 and 3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possible Agoraphob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f positive to 3 and 4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possible Social Phob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8542-4A8D-4AA6-BE12-2C1E0E88E81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ommon Mental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ixed anxiety-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Anxie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anic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Obsessive compulsive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1AE4-85D3-4E6B-AD57-5AC0A38EAB7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me physical illnesses (such as thyrotoxicosis), some medication and some street drugs can cause anxiety symptoms eg coffee, khat and amphetam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9B6-7BE5-4574-99E2-5BCAFFC5CDA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Generalised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56800" y="2214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plain anxiety to patient especially the link between physical and psychological sympto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Give good health advic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at a healthy di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ake regular exerci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ut down on alcohol; do not take drugs; do not smo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* Cut down on caffeine (coffee, tea, col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afe sex – use a cond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* Especially important – too much caffeine causes anxiety symptom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56A4-1FF9-4BB9-948F-63B4FE53A30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Generalised anxiety (continued)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each relaxation metho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patient not to use alcohol or cigarettes to cope with worries (see health advic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patient learn new ways of dealing with worri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patient work out ways of dealing with problems in their lif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(use books or leaflets if availabl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9977-1776-4DAE-9400-33023E033EF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Generalised anxiety (continued)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elp patient plan things which give pleasure, especially things which have reduced anxiety befo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lain that medicine doesn’t usually help with 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patient has depression as well as anxiety – treat the depression fir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fer to a specialist only if anxiety is very severe and interfering with daily lif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94E4-EF79-44BE-8BDF-CC8CDF5FE29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anic Disorder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e: many medical conditions can cause symptoms like panic, for example: heart disease, asthma, thyrotoxicosi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ymptoms need to be investigated until sure there is no physical ca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9E77-A1D3-49A3-8D9F-63DB71AE8B9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anic disorder (continued)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o patient that panics are common and can be treat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how anxiety causes physical symptoms which may be frighte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hat symptoms and frightening thoughts (eg going to die or going mad) will go as the panic subsid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9FF3-6673-4821-BC55-226F413EE4E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anic Disorder (continued)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ive general health advice (see slide 2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ach patient how to deal with a panic attack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 first sign of an attack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ay where you are, if poss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ll yourself that the feelings will soon pass. Even if it seems like a long time, it is usually only a few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ocus on thinking about something you can see which isn’t threate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reathe slowly and deeply, counting to 3 on each breath in and 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hen the feelings subside, continue what you were do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actice while in cli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st people do not need medication to deal with panic-benzodiazepines are addictive. If medicine essential, then consider 25mg amitryptyline a day or propranolol, but avoid maintenance diazepa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C550-9D3B-4DA7-88E1-3234DF79CDF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 phobia is an unreasonably strong fear and/or avoidance of people, places or events such 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aving home or being alone at ho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rowds or public pl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ravelling by matatu, bus, train, plane or c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en sp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peaking in publ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ev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her things such as animals, darkness, heights, bl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B36D-A25D-4B17-8D60-85F85DA517E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lain to patients that they can treat their phobia successfu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voiding the fear makes it wor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ears can be overcome by facing them systematica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68AE-B702-4CAC-A9CC-C6F7A84D431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 (continued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sure the patient understands the problem and wants to deal with it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elp patient plan steps to overcome the fear (‘exposure’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Find a small first step to face the fear eg if afraid to leave home, take a short walk away from home with a relative or frien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actice this step until it becomes boring not frightening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AB5A-1C7E-4E7E-BF99-67134E73E07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ymptoms and Syndrome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ome terms are used with two different meanin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g depression (low mood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s a symptom, an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s a syndrome (depressive illness) with persistent low mood accompanied by many other symptom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g anxiety (worrying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s a symptom, an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as a syndrome (anxiety state) with persistent anxiety accompanied by other symptom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7076-6D33-4676-9918-FA88E4FE1BE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 (continued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xposure (continued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plain that to succeed you have to experience panic and not run aw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ractice, slow, deep breath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 not leave the feared situation until the fear starts to go – at first this may take 30 minutes or m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nce the first step feels comfortable, practice with a more difficult step eg a longer time away from home, or go out alo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 not take alcohol, anti-anxiety medication or street drugs for at least four hours before practising these ste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Keep a diary to track prog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4EC8-7823-4AC7-943C-A76B04117BB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 (continued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patient is also depressed -see depression slide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ost patients will not need medication, except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the feared situation happens rarely eg fear of flying,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Verdana"/>
              </a:rPr>
              <a:t>short term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 medication may be usefu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62D-D9E1-4363-AA09-2CD3B4FD2AD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Phobic disorders (continued) 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nsider establishing a patient group for people with anxiety, panic and phobi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hare experienc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each and practice relaxation techniqu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upport each oth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97CE-834B-46B6-B84F-59BDDF450E6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Verdana"/>
              </a:rPr>
              <a:t>Video of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1867-23B7-4413-ADF5-3EA3748A382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Role play of anxiet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 10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veryone to take p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nxiety management skills are crucial as they are effective whereas benzodiazepines are addictive and not curati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40E7-B9D3-4A41-B2C2-E96C0994B3C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5. ADJUSTMENT DISORD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Brief reaction to stress which resolves quickl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211E-5D2F-46E4-91F1-783A426CF30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eeling overwhelmed or not able to cop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tress-related physical symptoms eg: not sleeping, headache, abdominal pain, chest pain, palpitatio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ymptoms of anxiety or 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creased use of alcohol or drug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n acute reaction to  a recent stressful or traumatic ev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273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02F-6113-4549-B341-62C9A7ADE87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say to the patient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tressful events often have physical and mental effects, physical symptoms are real and caused by str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These effects usually last only a short time – a few days or week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Reinforce any positive steps the patient has taken to deal with the stres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Advise patient against the use of alcohol or drug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Identify relatives or friends who can provide suppor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o not prescribe medication unless symptoms are very severe – and then only for a few day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B150-A3B7-4F60-B602-6586050BF21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4.6.</a:t>
            </a: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POST TRAUMATIC STRESS DISORDER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the patient complains of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hysical symptoms eg various pains, poor sleep, tiredness), various anxiety and depression symptoms linked to a particular trauma and lasting more than one mont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FADE-86F8-4B30-ABDE-0504BB355D7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istory of an extremely traumatic event that would distress almost anyon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ntrusive memories, flashbacks and nightmar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tient avoids thoughts, activities and situations which remind him/her of the even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CE16-34DF-463F-8C08-1D6278304BE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Bio-psycho-social causes of mental illne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fe events e.g bereavement, unemploy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hronic adversity e.g poverty, domestic viol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ck of social suppo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sycholog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ssimistic cognitive approach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helpful learned patterns of behaviou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hys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docr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BBB-1BFD-4A33-BB75-1EFC8B78859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nse of numbness, emotional blunting, detachment from other peop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 responding to surroundings, no longer enjoys anyt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eing over vigilant, easily startled, poor sleep, irritability, excessive anger, poor concentration or memory -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utonomic arousal’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1E57-63E1-46A5-A124-F15A4E1A2B8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hat traumatic events often have psychological effects. Most people get better without any treatment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f symptoms last more than a month treatment may be need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 to family that patient needs support and understand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103F-44B9-4640-B96B-B3D2BC6579A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patient to talk about the event with sympathetic friends or family memb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courage patient to face avoided activities and situations gradually (see ‘Phobic Disorder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k about suicide risk (see Depressio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8A71-B7D9-4837-B125-48C73698B6A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n’t use alcohol, smoking or street drugs to cope with anxiety symptom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gnitive behaviour therapy may help if availabl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edication is not usually needed, but anti-depressants may help if patient is depressed – they may take longer to work than usual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D4D8-E9FF-4BE1-A02D-5EDB0070313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PTS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seen it and wher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can you distinguish between depression, anxiety and PTSD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ole play 10c Mohamed H ame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F4A1-AB7C-4C69-A3F8-5749ACD58C8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7. SLEEP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hese includ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somnia – not being able to sl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leeping too much during the 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her problems such as sleep talking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leep-walking, nightmares, night terr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0051-A1AB-4231-BFC2-9854C6CC7D2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fficulty falling aslee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aking up in the nig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aking early-see 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 feeling refreshed by slee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alling asleep during the da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haustion, tiredne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oor memory or concentr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Irritability or depress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ependence on sleeping table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F9CC-649C-4D44-A825-5085B07D6DB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leep problems check lis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sk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had any problems with sleep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ifficulty falling asleep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Restless or not being refreshed by sleep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Early morning waking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Frequent or long periods of being awak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YES to any of the above questions, continue: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65A0-FFAB-4C78-8178-FAE91F88663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leep checklist continue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 you have any illnesses or pai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re you taking any medic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o you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rink alcohol, coffee, tea, chew khat/mira  before you go to bed?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Eat shortly before going to bed?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Take naps in the daytime?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Have you changed your routine (shiftwork?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Hear loud noises during the night?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2D3E-2AB7-4325-98B9-FAFD54854B7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leep checklist continue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 you have problems at least 3 times a wee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as anyone said you snore very loudl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o you get sudden attacks of sleep during the day that you can’t contro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re you feeling low or losing interest or pleasure in thing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re you worried, anxious or ten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ow much alcohol do you drink in a typical wee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951D-4693-420C-B89E-97EF0DADDD5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Bio-psycho-social consequences of mental illness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Suffer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sabi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rta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ici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hysical illnes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Unemploy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Low productiv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Pover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Stress on car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urnout, compassion fatigue, depre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arital breakdow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llectual and emotional damage to childr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ycle of disadvantage across gener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Reduced access to and success of physical health programm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53FA-A157-4294-B1F5-E88FD67AC97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leep checklist: summing up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any of 1, 2 or 3 – give advice on underlying probl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4 – possible sleep probl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5 – consider sleep apno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6 – consider narcoleps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7 – consider depre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ositive to 8 – consider 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weekly drinking is more than 21 units for men or 14 units for women, consider alcohol use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7F5-77EF-40B0-8C79-9CDBE4F1B551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Treat underlying physical illness, pain, anxiety or depression as appropriat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 patient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Most sleep problems do not last long, and do not require treatment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eople vary in the amount of sleep they need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Sleeping tablets are rarely needed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4C87-D88B-45CC-B089-90D589D0818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dvice for patient and family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Keep regular times for going to bed and getting up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drink coffee, tea or alcohol in the evening; do not eat meals late at n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take naps in the day tim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aytime exercise can help, but exercise in the evening may not be goo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ke plans for dealing with problems and worries before going to b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void taking sleeping tablets, or take for very short tim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CFCB-EBEE-462A-A439-467FB72ADB0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sleep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common are they in your clinic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are the common causes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cuss case scenarios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11a Mrs Helen Mukuny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11b Rebecca Musonic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4BA-2313-4843-B652-DBA7B9BCEE5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4.8. EATING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aladaptive eating patterns which endanger heal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tient may complain o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rious physical symptoms e.g abdominal pain, bloating, constipation, intolerance to cold, light-headedness, changes in skin, hair and nai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ack of periods, fertility problems, gastro-intestinal or throat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w mood, anxiety, irrit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DA7-A9E6-4BC3-B903-31E2EF80FDB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Eating disorder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Family may ask for help because of worries about patient’s loss of weight, refusal to eat, vomiting or lack of period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atient may severely restrict what they eat, binge eat, make themselves vomit, exercise excessively or misuse laxativ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33CE-770A-4722-B4E1-C12CAB2E659C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: (common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Unreasonable fear of being fat or gaining we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inking of themselves entirely in terms of body shape and we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reat efforts to control or reduce we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nial that weight or eating habits are a problem (anorexia nervos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bsessional sympto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Relationship difficult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ing withdraw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chool and work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20A5-6179-4126-8762-7D036855C15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Diagnostic features of anorexia nervosa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vere dietary restriction despite very low weig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orbid fear of being f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Unreasonable belief that he/she is overweig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ack of period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ome patients binge and abuse laxativ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9A1D-7BB9-484E-B652-C4E7D083CB0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agnostic features of bulimia nervosa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binge-eating (episodes of uncontrolled overeating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urging (attempting to get rid of food eaten by vomiting or using laxatives or diuretic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trict dieting and excessive exercise to compensat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inking of him/herself in terms of shape and weigh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3863-12E4-4CC4-8F43-C25DE6752D24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eople can show symptoms of both types of eating disorder at different tim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edical consequences of severe weight loss include: poor attention and concentration; poor memory; low blood pressure, slow heart rate, other heart problems; suppression of bone marrow; osteoporosis; muscle weakness; gastro-intestinal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CF8D-C66C-4B41-ABC4-2078E72B612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.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EPRESSIVE ILLNES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lease refer to pp 35-36 of WHOPHC guidelin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w mood most of time lasting more than two wee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 common illness which can be tr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ot weakness or laz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ffects ability to c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upport from family and friends is very impor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1497-8AB1-4E70-8343-48D6A541841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Help the patient recognise that they have a problem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his can be very difficult! They are often almost delusional about body im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xplain the dangers of purging and severe weight los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urging and severe dieting are not effective ways of controlling weigh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ain support from a family memb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ducate patient and family about good nutri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7E95-34D6-4B5B-A20E-2302CDE3F6F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t manageable goals for weight gain with the patient and family member – use a food diary to chart progr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o not expect rapid progr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ncourage family to be supportive and consist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weight loss severe,  low dose chlorpromazine at night can be life saving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f no improvement in about 8 weeks, refer to a speciali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93D-622E-4273-AAF8-B23EAC5DAA88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eating disorder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ave you seen any in your clinic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kinds of problems have you encountered in managing th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63A9-9AC5-41A4-9EBA-E6FA897CAD55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9a. SEXUAL DISORDERS (Female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Common problems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ack or loss of sexual desi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 able to achieve or maintain response to sexual excit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exual pain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Vaginismus – spasm of vaginal muscles on attempted penetration with fear or phob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Dyspareunia – recurrent genital pain associated with intercour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lay or absence of orgasm or clima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0787-AA0E-4B5D-A813-B932581167A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be reluctant to discuss sexual problems – may complain instead of physical symptoms, depression or relationship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talk about sexual problems during a routine smear test or when discussing contracep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B: patients with sexual problems may have a history of sexual abuse or assaul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8A54-D124-49BC-8653-14DD3E523B0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ome possible caus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epression – may cause, or be caused by, sexual or relationship probl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ide effects of medication or misuse of alcohol or dru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Gynaecological problems eg pelvic or vulval infec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Other physical illnesses eg  atherosclerosis, multiple sclerosis, diabet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Note: more than one form of sexual dysfunction may be pres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7C24-5E52-4156-B2D3-FF6D8F49BC8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reat physical causes where possible eg infections; reduce alcohol or drug depend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sk about previous traumatic experienc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Discuss sexual beliefs and expectations with patient and partner. Encourage patient and partner to discuss their preferenc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ncourage patient and partner to practice giving each other pleasure without full intercourse; – it may take some time to regain full sexual activity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F02A-554C-49E5-8CC0-7CC709B1219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aginis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use is  usually psychologic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xplore psychological issues and give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aginal dilators   in graded sizes can  help , but may not be  generally available.-this is a service lack at present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ay be difficult to treat without specialist hel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yspareuni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Lack of foreplay, poor lubrication, anxiety and muscle tension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Relaxation, use of lubricants and prolonged foreplay may help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ck of orgas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iscuss couples’ beliefs and attitud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Lack of foreplay common problem. Stimulation of the clitoris may hel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Women may experience sexual satisfaction without orgasm.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Women may be encouraged to use vibrators if available and/or sexual fantasy to give themselves pleasu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135B-AF13-4640-9891-0AE6EF9E3FE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female sexual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kinds of problems present in your clinic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How do you manage them?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difficulties do you encounter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E3EB-CECC-4B3D-B87B-42D38B146E6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9b. SEXUAL DISORDERS (Male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Common problems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ack or loss of sexual desire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rectile dysfunction or impoten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emature ejacul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tarded ejaculation or problems with orgasm – intravaginal ejaculation may be absent, but can occur normally during masturb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E58D-FDF7-4CC7-BAE4-305638E0F76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Verdana"/>
              </a:rPr>
              <a:t>What the patient may complain of: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Malaria although no fever and normal blood fil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hysical pain eg headache, backach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ired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rrita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nxie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ability to slee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Worries about money or relationship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Increased drug or alcohol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(in a new mother) constant worries about her baby or fear of harming the bab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B24F-190F-4485-8ABE-6334F758E1F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Some possible causes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Depression and/or relationship problems with a partner may cause, or be caused by, sexual dysfunctio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Erectile dysfunction can be caused by physical factors eg alcohol or drug misuse, smoking, high blood pressure, diabetes, hydrocoele, multiple sclerosis, spinal injury, some medication eg antipsychotics, antidepressants, diuretics, betablocker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Verdana"/>
              </a:rPr>
              <a:t>Ask: is it impossible to achieve erection at any time – morning, night or during masturbation?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Specific disease in sexual organs, ra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Unreasonable expectations of sexual performan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Note: more than one sexual dysfunction may be prese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397-6D05-445A-9573-A9B89CCBB086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rectile Dysfunctio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Explain – often temporary; due to stress, loss of confidence, fear of failur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Advice to patient and partner-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Do not have intercourse for several week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ractice giving each other pleasure without full intercours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-438120">
              <a:lnSpc>
                <a:spcPct val="90000"/>
              </a:lnSpc>
              <a:spcBef>
                <a:spcPts val="575"/>
              </a:spcBef>
              <a:buClr>
                <a:srgbClr val="6666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Gradually return to full intercours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Verdana"/>
              </a:rPr>
              <a:t>Medication may help if available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9B64-0C0B-492B-B524-DAAD7960F2E2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Premature Ejaculation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Usually seen in young men from first attempts at intercours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Advise: Can learn to delay ejaculation with experienc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Retarded ejaculation or orgasmic problems: More difficult to treat, but self-pleasuring and penile stimulation may help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0E76-0BD4-415F-B24A-C4C15F6D548B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What to do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Lack or loss of sexual desir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xplain: the level of sexual desire varies between individuals – may be different expectations between partn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Many causes: stress; illness; bereavement; relationship problems;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Encourage cooperation between partners, stress reductio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C9B-D819-4F93-AE33-F9D4B060175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Discuss male sexual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is your experience in your clinic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What difficulties have you encountered in dealing with them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DCC1-7060-4C66-8DA4-0AB1C650525F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masturb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cu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rmal human activity in private to release sexual desires without imposing inappropriately on oth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918F-40DE-4EDB-81E7-3A30D89EE07D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Homosexuality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scus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 a mental disord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rmal variation of human sexuality in 5-10% of adul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Not a mental disorder in itself , but difficulties of adjusting and living with homosexuality may predispose to depression and substance abu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50B-8C9E-49C3-8DA3-553EF9F738F9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4.10. ALCOHOL MISUS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263664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See page 40of WHOPHC guidelin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rinking above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8 units per week for 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1 units per week for w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8C50-3CE2-4B10-91C6-B006F1741EFE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Alcohol misus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patient may present wit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w m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Nervous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able to sl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hysical consequences of drinking eg ulcer, gastritis, liver disease or high blood pres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ccidents or injuries related to drink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oor memory or concent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lf-neglect e.g poor hygie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ailed treatment for depre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F5A5-2108-4401-B543-4E00DD8E486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re may also b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legal and social problems due to drinking eg marital problems, domestic violence, child abuse or neglect, missed work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66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Signs of alcohol withdrawal eg sweating, tremors, sickness, hallucinations, f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atients may be unaware of, or deny, alcohol problems. Family members may complain before the patient do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4:50:57Z</dcterms:created>
  <dc:creator>Elizabeth Armstrong</dc:creator>
  <dc:description/>
  <dc:language>en-US</dc:language>
  <cp:lastModifiedBy>LENOVO</cp:lastModifiedBy>
  <dcterms:modified xsi:type="dcterms:W3CDTF">2021-12-02T18:02:27Z</dcterms:modified>
  <cp:revision>125</cp:revision>
  <dc:subject/>
  <dc:title>COMMON MENTAL DISORDERS</dc:title>
</cp:coreProperties>
</file>