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F2E1-35A9-43C6-B30B-5CBC40ED1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0EE7-E905-4084-8C6B-F6A14063BC31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6FF-F188-43AA-87C2-F7F07E28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5C4-EE17-4345-8528-D2EAC047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30F1-6638-41DF-B521-41905841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AFC-3C5C-4407-AFA5-79D59043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87BB-CCAC-48CD-9F33-6E21DE49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5F9F-D160-4A78-9345-BA307BE3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82C6-1F5D-47CB-B0D5-BD729987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135C-6F26-4232-9715-C546C9FE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4592-67BD-47BE-84EE-CB757C2D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7944-C575-43A4-B159-A6AD494E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2944-BC40-4232-AA57-3E56045C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5EB8-C35D-47F5-85A0-C07BC4EC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483B-FEB2-4DAE-8975-35C119E5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137F-937B-4F1B-8DC3-2D41F282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72E6-66AC-41C6-A1C8-0408BE50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1085-A328-49C7-AE3E-C6E67634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EDD0-3C9D-4A06-810B-ACF693E6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53A-E2DC-45E7-9F05-B8C6AE88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04C9-B91A-4EC6-8768-36159CAE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7CC7-F0D2-445E-9838-81D10835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9301-22D3-41F3-94EC-C7B2C362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BDE-6C58-4EE6-85CA-6D42739F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2480-E32A-42C3-B896-01A83AC8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096-E3C3-47B3-9EC1-96E0B5F5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4DE1-E6BA-4448-BB1A-0C92197DC70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CE31-C178-47CF-A155-4485396BED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ABFF-10D2-46C0-9347-293AD934A75A}" type="datetime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F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4200-E06D-4459-9BB7-8C8615901AD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C9ED-4B66-43F2-8C20-C7C9FFEF5319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29D6-4EB8-479A-9499-916FDDB2398A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ity Dis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By: KASISI F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5EA7-9A0D-4BB9-B355-E16BD6DD2065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EC50-AB65-460E-A0E9-BCE12FC3FE95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1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ity Disorders Cont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fferent Class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41A8-A3C1-4BE4-9204-0E83C9C8C08E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152B-7CAE-49A9-AD3A-B21958104842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opath/Antisocial Personality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ttern of disregard for and violation of the rights of others that begins in childhood or early adolescence and continues into adulthood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evalence more common in males than females (5:1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ore likely to be diagnosed in prison or forensic samples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p to about 30-50% of incarcerated populations (Drugge, 2002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ailure to conform to social norms with respect to lawful behaviou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eceitfulness (lying, use of aliases or conning others for personal profit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136A-17D4-4A08-9086-0263D4F80470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6551-A669-4AAA-AE5E-326A5D501C82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opath/Antisocial Personality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mpulsivity or failure to plan ahea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ow threshold for aggression and easily frustrat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rritability and aggressiveness (physical fights or assaults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cklessness disregard for safety of others or self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sistent irresponsibility (failure to sustain consistent work behaviour or honour financial obligations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176D-0704-4B30-97A9-061E7A495AC5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2D55-1FE7-4D2F-869D-E7F756EBB1BF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opath/Antisocial Personality Disorder cont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ack remorse (indifferent to or rationalizing having hurt, mistreated or stolen from another; and does not learn from experience i.e punish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ay initially appear articulate and charm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cludes behaviors such as vandalism, harassment, theft, and a wide variety of illegal activities such burglary and drug deal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s individual should be at least 18 years and evidence of conduct disorder before age 15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5480-4DA4-47D5-AE73-E82B4F353F9F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57C9-224A-4C3F-87C8-20B30982CFBF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noid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½ to 2½ % of the popul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ssume the worst, may be quite skilled in identifying patterns of events and behaviors of others that “prove” they are being plotted against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re reluctant to trust or confide in anyon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ervasive distrust and suspiciousness of others, their motives interpreted as conspirational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ACD1-FABB-4266-A078-59A57C720E9D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7AC0-FF3D-487A-B17F-C61A6936EF5C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noid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ventually come off as angry, stubborn and bitter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uspects without proof that they being exploited, harmed or deceived frequently become embroiled in lawsui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eoccupied with unjustified doubts about loyalty or trustworthiness of friends or associat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7644-A8A3-4B7E-8CF8-1BCB17E39948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585E-992C-4594-8210-3EEC42B8AEB8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noid Personality Disorder cont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luctant to confide in others because of fears of information being used against the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ads hidden demeaning and threatening meanings to remark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ersistent bearing of grudg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erceives attacks to character or reputation not apparent to others and reacts angrily or counterattack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current suspicions regarding fidelity of spouse or sexual partn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98EA-0CDD-438D-B614-665AEE90FB2F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0E48-31A5-4A3B-BAA1-A9F514AC0040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izoid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tached from social relationships and restricted range of expressing emotions in interpersonal settings beginning by early adulthoo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hooses solitary activiti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oes not desire or enjoy close relationship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ittle or no interest in having sexual experiences with anoth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BE12-2D1E-464F-AC77-AACA2BDF33EC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15EC-D2EA-4CFA-BCD5-7B615E4F7D21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izoid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ittle or no pleasure in activiti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o close friends or confidants other than first degree rela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different to praise or criticism of oth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motional coldness, detachment or flat affec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sensitivity to prevailing social norms and conven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F379-F621-4261-B447-14C5BF9E3EA2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3B27-ED64-40EF-A4F3-713BA90F72BF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izotypal Personality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3 % prevalence rate in the population—may be slightly more common in males Idiosyncratic &amp; experience odd thoughts, seemingly strange ideas, and behave unconventionally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y wear odd and unkempt clothing, and espouse unique ideologies or “theories of everything.”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ossess interpersonal awkwardnes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Have particular difficulty in close relationship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926B-9B06-413F-A06A-DB2EC53F6272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6C79-A761-44AE-AE01-26C31B71E142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ersonality entail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ifelong persistent, enduring characteristics and attitudes of an individu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ay of 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nking (cognition)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eeling (affectivity)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ehaving (impulse control and ways of relating to others and handling interpersonal situation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B240-4A77-4A73-AE77-690ABD5BC68D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5EE8-2F67-4F4B-AE55-0288FD6811A1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izotypal Personality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n inability to take pleasure from any kind of social interaction, ranging from interesting conversation to sexual activit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difference to other’s opinio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ve solitary liv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uch people seem unlikely to seek professional help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t its extreme this disorder can dangerously approach schizophrenia, characterized by major distortions of reality, jumbled thinking, and even hallucinatio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A447-0861-4952-83EA-884E45BC81A1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898A-1AF6-4043-9C82-977E4624A382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498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oidant (Anxious) Personality D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ersistent feelings of tension and apprehens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elief of being socially inept, unappealing or inferio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eoccupied with being criticized or reject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Unwillingness to become involved with people unless certain of being lik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stricted lifestyle due to need to have physical securit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voidance of activities involving significant interpersonal contact for fear of criticism, disapproval or rejection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0B66-1A1D-4603-B6E2-21195A6ACC91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E75B-F31C-443B-9C8B-9D3E0533CC02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498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endent Personality D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ncourages/allows others to make important life decisio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Undue compliance and subordination to the wishes and needs of othe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Unwillingness to make reasonable demands on othe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eeling uncomfortable, incompetent or helpless when alo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eoccupation with fears of being abandon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mited capacity to make everyday decisions without advise/reassurance from othe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572A-AC75-40F5-8EC5-D51FF8E0CFF5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AD21-3952-41DF-9371-A80B67AF08AA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trionic Pers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2-3% of the population; more frequently diagnosed in wom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ervasive pattern of excessive emotionally  and attention seeking (self dramatization, exaggerated expression of emotions) beginning by early adulthood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ncomfortable where not centre of atten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teraction with others often with sexual seducive or provocative behaviou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03B9-2BE2-43D2-B2ED-576F46B3C7CA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AA12-7409-4DCE-9EDB-97C55CD6CB7D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trionic Pers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apid shifting and shallow expression of emo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e of physical appearance to draw attention to self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peech style excessively impressionistic but lacking detail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uggestible and considers relationships to be more intimate than the actu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450C-0EB1-4EC6-968B-0BE4FF1FA469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D34D-19FC-4BCB-81DB-63918FD17AC9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498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derline Personality Disorder (BP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40752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The hallmark of this disorder is emotional instability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9 characteristics (5 needed for diagnosis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90000"/>
              </a:lnSpc>
              <a:spcBef>
                <a:spcPts val="6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1. Rapid Mood Shift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90000"/>
              </a:lnSpc>
              <a:spcBef>
                <a:spcPts val="6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2. Uncontrollable Anger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90000"/>
              </a:lnSpc>
              <a:spcBef>
                <a:spcPts val="6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3. Self Destructive Act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90000"/>
              </a:lnSpc>
              <a:spcBef>
                <a:spcPts val="6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4. Self-damaging behavior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90000"/>
              </a:lnSpc>
              <a:spcBef>
                <a:spcPts val="6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5. Identity disturbance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90000"/>
              </a:lnSpc>
              <a:spcBef>
                <a:spcPts val="6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6. Chronic Emptines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90000"/>
              </a:lnSpc>
              <a:spcBef>
                <a:spcPts val="6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7. Unstable relationship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90000"/>
              </a:lnSpc>
              <a:spcBef>
                <a:spcPts val="6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8. Fear of abandonment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90000"/>
              </a:lnSpc>
              <a:spcBef>
                <a:spcPts val="6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9. Confusion and feelings of unreality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EBAA-7C92-4774-894D-CFAE94A2F4C5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B630-AAB6-481C-96D8-17B04FCB3029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derline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ervasive pattern of instability of interpersonal relationships, self-image, and affec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rked impulsivity, severe mood swing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e self, others, world, in black and whi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ndermine their own achievem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ramatic, particularly when threaten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ore common in females (4:1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bout 60% of clinical populations referred for borderline personality disord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05E0-DD5D-4AC4-BAE2-63C55D2C0BBF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8B16-CB2C-4B88-9329-C64E6735862C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498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rcissistic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48960" y="1523880"/>
            <a:ext cx="7661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ess than 1% of the general population are diagnosed disorder is relatively rare  BUT related trait of narcissism is quite comm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9 characteristic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. Grandiose sense of self-importan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. Preoccupation with fantasies of ultimate attain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. Belief that he or she should associate only with others who are “special”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. Requirement for excessive admir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5. Sense of entitlement exploits othe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5E91-81BC-4486-B109-D9223044A17E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20C0-3719-4981-A29B-D9B6C842E6F7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498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rcissistic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48960" y="1523880"/>
            <a:ext cx="7661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6. is interpersonnally exploitativ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7. Lack of empath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8. Enviousnes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9. Arrogant behavior and attitud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arcissism is a Trait where people appear superficially charming and make a good first impress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end to brag &amp; make themselves look good at someone else’s expense; defenses that are likely to lead to social isolation or poor social relationship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esperately crave feelings of power, prestige, success, and glory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CB44-CBB0-4BBD-881E-CCAEE7EE124D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81FF-7D10-475F-97E5-5CD92E645516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nkastic Obsessive-Compulsive Personality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Occurs in 1% of the population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verconcern with rules and detail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deep reverence for rules, organization, and details, to the point of absurdity.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erfectionis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inclination to the degree that it causes severe problems.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orkaholi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often stereotypical workaholics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flexibilit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set ways of thinking and behaving and are not open to change.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4D23-E9FD-4A3B-9115-659EC19058C8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C302-8F07-4B7A-B84D-C01E3EA7BD17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 Cont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ersonality development occurs in early years and remains modified up to adolescence and early adulthoo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rmal personality is considered in 5 dimensi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xtrovers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motional stabilit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greeablene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nscientiousne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tellectual open mindedne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4CF8-5D0B-4478-967D-F5F428A60ED3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D279-200F-44C2-9F8B-B4CA504B3FC0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essive-Compulsive Personality Disorder cont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ckr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compulsively unable to throw anything away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ability to delega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does everything for himself or herself, because nobody else can possibly do things right.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iserl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hoard pennies against unlikely future catastrophes, and they may live way below their means.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igid and stubbor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do things the same way time after time, day after day; even the contemplation of a change upsets them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8513-4611-4AA7-9722-599C406F2374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5286-CD5B-497C-9322-DC6E605B0805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fective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ife long abnormalities of mood varia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pressed- usually gloomy pessimistic and inhedoni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yclothymic- alteration between gloomy and elated stat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nic – mild elation, over optimistic and impuls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5EF2-116E-49C9-9135-09105358DFDD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3633-E144-4915-945B-4EEE2018B365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sive pers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mpulsive typ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motional instabilit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ack of self contro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haracterized by violent/threatening outbursts particularly in response to criticis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F602-7D0A-4E97-9B7D-6B1F10A624A6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076A-FB5B-4E67-87CA-411369396A10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ersonality disorders are difficult to manag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dividual/group therapy, therapeutic community, CB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nipulation of social environment can help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rugs not appropriate unless superimposed mental illnes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4529-0C21-42B7-8E44-87450D43DD55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F0F1-B74E-4ABF-A205-EB411D402D58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48960" y="1523880"/>
            <a:ext cx="7661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ersonality disorder, by definition, is the expression of an unusually extreme degree of one or more attributes of personali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t is important that the variation not only be extreme, but also unusual, especially considering the individual’s cultural contex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AA5E-E458-45D8-979A-FC2DD8E6762A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C1D9-7550-4F49-B6BB-8E8161FCED43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 for Atte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od Bles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AD8A-C691-46E6-86B0-019669946BAB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FD02-9894-45EC-AE9C-B126EAEEDCCC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elder, M., Harrison, P. &amp; Cowen, P. (2006). </a:t>
            </a:r>
            <a:r>
              <a:rPr b="0" i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Shorter Oxford Textbook of Psychiatry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5th Edition. Oxford: Oxford University Pres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Jacobson, J. L. &amp; Jacobson, A. (2001). </a:t>
            </a:r>
            <a:r>
              <a:rPr b="0" i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Psychiatric Secrets: The Secret Series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2nd Edition. Philadelphia: Hanley &amp; Belfus Inc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Kendrick, T. &amp; Simon, C. (2006). </a:t>
            </a:r>
            <a:r>
              <a:rPr b="0" i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Mental Health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 Oxford: Oxford University Pres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Kaplan &amp; Sadock (2000). </a:t>
            </a:r>
            <a:r>
              <a:rPr b="0" i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Textbook of Psychiatry</a:t>
            </a:r>
            <a:r>
              <a:rPr b="0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7th Edition. New York: Lippincott Williams &amp; Wilkins Publisher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obertson, B., Allwood, C. &amp; Gagiano, C. (2001). </a:t>
            </a:r>
            <a:r>
              <a:rPr b="0" i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Textbook of Psychiatry for Southern Africa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 Oxford: Oxford University Pres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mple, D., Smyth, R., Burns, J., Darjee, R. &amp; McIntosh, A. (2005). </a:t>
            </a:r>
            <a:r>
              <a:rPr b="0" i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Oxford Handbook of Psychiatry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 Oxford: Oxford University Pres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ri, B.K., Laking, P.J. &amp;Treasaden, I.H. (2002). </a:t>
            </a:r>
            <a:r>
              <a:rPr b="0" i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Textbook of Psychiatry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292929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Edition). Edinburgh: Churchill Livingstone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ssignment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ity Disord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C53D-6E91-47CF-9EEA-5B45923DB218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4D33-9521-4342-954F-17FD4CB54ACD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ersonality patterns that are pervasive, inflexible &amp; maladaptive (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Maladaptive pattern of behavior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hildren may have all personality disorders except antisocial personality disorder (must be &gt; 18 to diagnose). If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&lt; 18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, it is called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conduct disord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6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5E40-EE56-4D14-988C-B03AE2D0CE7E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3AE8-9A67-4616-AF75-C070BA6E3229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are 3 clu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uster A: (Odd): Peculiar thought processes, inappropriate affec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uster B (Moody): Mood lability, Amnesia &amp; preoccupation w/ rejec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uster C (Anxious): Anxiety, sensitive, preoccupation with criticism or rigidi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1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A4EF-AB62-46B5-BA19-90AA78192B12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4C0E-D3A8-48AE-ACCB-6A4FD7FE0ED8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97CC-C566-4031-B37A-297CD4BAA01A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72EB-992D-4AAF-9A25-AF2CEBFC15FA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ersonality disorder i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treme persistent variation from normal range of one or more personality attributes (traits) , causing an individual/ family/society to suff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k Factors/Et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nate temperamental difficulties, such as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rritabili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dverse environmental events, such as child neglect or abus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ersonality disorders in paren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6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D4A4-023D-4BCE-BEF1-124FEC3E8B4A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B5CC-6EFE-4B37-A1E7-F678B6C28798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valence &amp; On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ore males have antisocial &amp; narcissistic personality disord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ore females have borderline &amp; histrionic personality disord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ually not diagnosed until late adolescence or early adulthoo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1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313F-EC4F-4AEA-A6CE-347380773820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4726-F993-40AA-8BDC-AE1AF1E66248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ually very chronic over decades without treat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aranoid, schizoid &amp; narcissistic (moody) personality worsen with ag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ntisocial &amp; borderline (violent) personality disorder improve with ag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6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238D-7BF3-46B0-B95E-975C033E1AD2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62C0-6577-429C-88BA-E04C48C5EA00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Symp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ng pattern of difficult interpersonal relationship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blems adapting to stress, failure to achieve goal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hronic unhappines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w self-estee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ssociated Diagnoses: Mood disord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! Risk Factors/Etiolog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 Innate temperamental difficulties, such as irritability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 Adverse environmental events, such as child neglect or abus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 Personality disorders in parent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! Prevalence &amp; Ons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 More males have antisocial &amp; narcissistic personality disord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 More females have borderline &amp; histrionic personality disord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 Usually not diagnosed until late adolescence or early adulthoo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 Course: Usually very chronic over decades without treat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 Paranoid, schizoid &amp; narcissistic (moody) personality worsen with ag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 Antisocial &amp; borderline (violent) personality disorder improve with ag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1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EFA1-767A-4A75-A90A-D2DEC7C62206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BC30-7318-4BDB-9D0E-738FD6B08E35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ial Diagn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ood disord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ersonality change due to a general medical condition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djustment disord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8E01-5BE8-4742-9CA3-D5A7E8FA385A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6C20-8E31-40BC-A0F6-0EBBE3FFB6DA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sychotherapy (Psychodynamic &amp; Cognitive therapy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ood stabilizers &amp; Antidepressants maybe used in Cluster B personali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1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6CCB-77D9-467E-A86E-244CFB1E3DB3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7448-9E9F-47CD-A9B8-B7B9A7C99AAF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uster 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Odd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AC25-ED45-4678-8C02-298CBAB8B196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E22F-1B8A-423E-9E6D-8D0AB0C992AA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anoid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08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416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strust &amp; suspiciousness often secretive &amp; isolated, emotionally cold &amp; odd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ssociated features: brief episodes of psychosis w/ persecutory delusions &amp; pre-existing sensory impairment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fense mechanism: Projec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fference from schizophrenia is the duration - all lif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unctioning level - Can func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 psychotic syndromes (No hallucination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1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76B9-41C7-4D05-AE62-32F63D2A4E52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F627-6712-4388-A203-9CC89CD09A7F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hizoid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ually a lon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tachment &amp; restricted emotionali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dividuals are disinterested in others &amp; indifferent to praise or criticis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ssociated features include social drifting &amp; dysphori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9D0B-9962-4C7E-8680-608C860AB64A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2AE5-65C8-4C7F-9ED6-14A64439F6D7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hizotypal personality disor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48960" y="1523880"/>
            <a:ext cx="7661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most Odd / Bizarr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scomfort with social relationships; thought distortion; eccentricit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dividuals are socially isolated &amp; uncomfortable with othe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n have Schizophrenia if under stres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Unlike schizoid personality disorder, they have peculiar patterns of thinking: (ideas of reference &amp; persecution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dd preoccupatio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dd speech &amp; affec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1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C5F4-BD81-4AA9-B1C5-B95D99AEEC8B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40EC-D9B4-40F1-B6F0-5BF7C9988989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31FB-7F6D-433B-99F6-2BA0C722811D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A7C0-C934-455D-B36B-FD1BB69A45FA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ification of Personality D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ithdraw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noi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chizoi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chizotyp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pend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xious (Avoidant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pend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ssive aggress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uster B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Moody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D395-1CEA-4DFF-8D95-1ECFC2EF0BFF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1786-CF57-4228-969F-025BE05FDB80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rionic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lorful, exaggerated behavior &amp; shallow expression of emo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ncomfortable in situations where he or she is not the center of attentio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es physical appearance to draw attention to self; sexually seductiv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1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6406-170E-40A5-909C-407FB45D4D95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B381-4CC5-4174-B0F6-F831A51D15BA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rderline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nstable affect, mood swings, marked impulsivi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current suicidal behaviours, feelings of emptiness or boredo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appropriate ang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f stressed, may become psychoti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fense mechanism is split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6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BB10-DDCC-419F-95EE-CF69AF5B77CF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2209-AF07-4DE8-B587-440F4D1A3E5C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tisocial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ntisocial or criminal acts, inability to conform to social rules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sregard for the rights of others, aggressivenes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ck of remorse &amp; deceitfulnes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ymptoms start at the age of 15, but the individual is diagnosed at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&gt; 18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1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9063-4FFD-462B-AC5D-1584B41E0C03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616B-EF30-4598-AB6B-8239FC67DBA2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rcissistic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nse of self-importance, grandiosity &amp; preoccupation with fantasies of succes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s person believes she/he is special, requires excessive admir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acts with rage when criticized &amp; interpersonally exploitativ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6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DEB4-F7B6-49C6-8F3D-6D2308A00D9C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9062-F172-4180-B3BB-D8F7589D0D25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uster C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nxious, Fearful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15C3-942E-4FD9-8288-4F6604C42684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E79E-C3D3-435C-8AC6-98E009187798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616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oidant personality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0520" y="17521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ocial inhibition, feelings of inadequacy &amp; hypersensitivity to criticis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hy away from work or social relationships because of fears of rejec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eel lonely &amp; substandard and are preoccupied with rejec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6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0BCE-D013-46D0-99C7-96AB76248C4C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D8BE-AE57-4DC0-8BFE-1CF258F731E2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pendent personality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052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6040" indent="-446040"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ubmissive &amp; clinging behavior &amp; worry unrealistically about abandon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eel inadequate &amp; helple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void disagreements with othe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y usually focus dependency on a family member or spo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n be found in many abusive relationship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ssociated features include self-doubt, excessive humility, poor independ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6040" indent="-446040"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unctioning, mood disorders, anxiety disorders &amp; adjustment disor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1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20F9-75EA-4257-A441-23DC1258AD8E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2864-8974-436F-AB93-B10F97A3DAC5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ssive-compulsive personality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ndividuals are preoccupied with orderliness, perfectionism &amp; control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onsumed by the details of everything and lose their sense of overall goals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They are strict, perfectionist &amp; inflexible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Obsessed with work &amp; are hesitant to delegate tasks to others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Other traits include being miserly and unable to give up possessions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ssociated features: Indecisiveness, dysphoria, anger, social inhibition, &amp; difficult interpersonal relationships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Remembe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: This personality disorder should not be confused with obsessive -compulsive disorder (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CD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6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8A63-C274-40E8-A90A-51B05FE92E7B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2D4E-D915-41CE-BD5F-1A4A0B8576A1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C3D3-827E-47B1-97C7-C33EEC9ACFA1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F8D1-FA39-4B41-AD99-2B6EFA4CED8C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ification of Personality D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ntisocial ( dramatic emotional flamboyant and erratic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Histrioni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mpuls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orderlin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arcissti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ssoci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hibite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ankastic (obsessive compulsive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Hypochondriacal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pressive (dysthymic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D0F9-CBDF-4FA8-8093-0EA429EC9168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EF1C-2602-4630-8B7D-48F00F488701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pidemiology and Ca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10% outpatients and 5% in patients diagno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ore common in those aged 18- 35 years in males and lower social clas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etiolog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rise from family and early background facto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sychological factors (early attachments, maladaptive learning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stitutional (prenatal factor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Hereditary (genetic preposition or chromosomal abnormaliti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6457-389D-4294-9F24-F4280117782F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B52F-24E3-4988-B634-E16B05FA7835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cipitation and Perpe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ersonality disorders are lifelong and enduring but may be revealed by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tress or removal of support (through death or separation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esent with depression, anxiety, drug or alcohol abuse, self harm or other psychiatric disord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erpetuated by social enforcement, subcultural expectations and labell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42B3-19D5-4298-86F9-67C29BD9BC89}" type="datetime">
              <a:rPr b="0" lang="en-US" sz="1000" spc="-1" strike="noStrike">
                <a:solidFill>
                  <a:srgbClr val="29292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F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A5E9-6776-45BE-B926-20A19980FDF3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Defense Mechanis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enial (refuse to admit or accept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ojection (point to other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pression (forget/ unconsciou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splacement (express undesirable impulse on a safer object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ationalization (make excuse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action Formation (express opposite feelings to your own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tellectualization (hold back emotion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ublimation (react to feeling in a way acceptable by society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4:19:37Z</dcterms:created>
  <dc:creator>deirdre</dc:creator>
  <dc:description/>
  <dc:language>en-US</dc:language>
  <cp:lastModifiedBy>KASISI</cp:lastModifiedBy>
  <dcterms:modified xsi:type="dcterms:W3CDTF">2016-11-19T08:13:47Z</dcterms:modified>
  <cp:revision>19</cp:revision>
  <dc:subject/>
  <dc:title>Personality Disorders</dc:title>
</cp:coreProperties>
</file>